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3B19-2AB1-4F3F-916E-CE398F2D5D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, специалисту необходимо спросить себя, насколько глубоко я готов говорить с родителями на тему суицида и его причинах, позаботиться о собственном эмоциональном состоянии; думать и планировать профилактическую работу с родителями от которой будет толк лучше в ресурс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A41-4A99-4ECE-B06D-0EF782DF2B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5E88-09A5-4BC3-BA44-92B28045E7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и не бояться делать каждому взрослому, работающему с детьми. И разъяснять это род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31DA-1AC6-425D-ABAC-F3C135309C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дел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D1CE-FDB3-4585-B2B1-C93DE7517B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методы используют специалисты. Они же необходимы в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991-CFAE-4C95-83D8-1991B4BE11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ТД важен для подрост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797-9BAB-4DB6-9642-21DD93BCB6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дителями важно говорить о отношениях между папой и мамой, которые будут служить детям опорой, о нахождение путей взаимодействия, общения друг с другом, несмотря на раз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моббинг, общение в Интернет – пространстве через социальные сети, чаты мгновенных сооб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D71-221C-46AB-B826-1654EEA706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2C2B-6D18-447E-BFED-3083639038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ный фон. Сами по себе говорят о нездоровье, как физическом, так и психическом наличии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E35E-E1FD-44FC-8F00-FC2C0AA4BB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сами по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072-9E54-436B-A314-70BD9F4801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557-8F41-4966-92E9-10806B0F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8E0-2F1E-4C25-B4B4-9808CA9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381-09E3-457F-B70A-40D87073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1F1-1CDD-4C66-BDC7-3948F227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C349-E31A-42AB-A865-F8B6E664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4AF4-90C5-4F3B-B1C6-858EAFC3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1460-F97F-4850-9C70-C5897EE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FEE1-4C88-45BB-B720-E982C84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5692-1547-4627-BCCB-8EA57AF6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0A10-201D-4736-99B6-1C385945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266-9D38-4511-833F-9BFFE71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EB8-F70F-445B-9009-AEEC63F5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0AAA-F1CF-4AB3-B224-3E06970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904A-2D09-4151-82AB-3E46151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44F-B785-42EE-9257-079A590F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C3C3-AFF8-4D9F-AFEC-2F744249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32FA-6186-4506-BB09-74E64A00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FC48-87C7-4EBF-B6F1-C1B9FCA7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055E-BF5C-4D36-BAFE-A40546D1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65AC-C049-4EBB-9EC9-C8E72A58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11A6-CF02-4C76-A786-F51BBB61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8218-08BB-4C83-9763-8445C3D1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BA2-809F-4C21-A3C4-265BCC9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8797-C594-487B-A7D0-AC06F137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40E3-C235-4D26-BF5E-018833C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4F71-58BC-4D70-88F7-4FB26FD8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576C-20A7-4417-9468-3676F61C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02B7-57A1-4F26-9FC0-267FE87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F3A2-FB9E-4238-BD23-BBF0FC99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9347-63EE-42B4-911A-5F30F76E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5517-9607-4F79-9BF4-B63E4113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DC79-C5D0-40EC-9E9C-760DB5A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8D60-64C5-4CDC-9DA7-778423C2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4AF-8930-4086-8924-6264A95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F5A0-FB79-4942-8BB2-F1BF480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ABA6-39BE-4920-9B8A-0CD62CD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F0F0-52BD-452D-92F1-212D4A7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C57E-462B-4889-AECE-914EFDE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9C17-C9D5-4ED0-A22D-7D5152A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2D0F-8374-4AC2-8513-1DE1862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B2B6-89F7-46AF-A78E-2FECAEC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A632-BB4D-4132-9354-0B830793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B635C-37D0-4A75-8FC3-6844B908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045E-8F85-4F5A-AE57-40A4DCEC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574-CC08-46C0-842A-F0BCAF4F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546E-F21F-4CF6-8AA2-620F7C9B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3495-3383-495C-90F9-55888FD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7BFF0-F2E9-4DB5-85DA-B51478B2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1229-1FBE-4A70-A39F-6F66202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4625-22AB-4A97-BC5D-B1B739E3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51125-2640-408A-AB01-9434AC88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75AF-FFA0-486E-A298-AE8DE732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2BC8-81D8-49FF-B0D3-D502302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A44A-C5ED-400A-BAA6-1FF5DB8F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8A4A-92D8-433D-A459-50DEF415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135-A7F8-441A-8909-02859881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4837B-97BF-48E6-95FB-DBCDFAB0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0366E-9298-49FF-B9F6-4A7F43CE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E085F-8B26-43E0-852A-117B411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54166-80EA-4B74-9202-49318D43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5B719-8C13-49F8-9A2F-E582538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4A47A-7CCC-4E7B-B0E9-2F0E5786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3C4EC-5978-416A-A54D-4F06F483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58B33-D751-40D4-954F-B829D61B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DBA59-669E-4636-A44B-1281E2E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0DBA8-5B92-404A-B114-E825F75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F3A-95B5-4321-A69A-B2C6FC7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64112-AC6C-45D3-996C-0A0CA56D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11EC3-5DDD-4F11-8871-BD54BC9F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1ACE7-AAC0-4E6F-B561-2C9E092B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C0D4-1924-4D93-9586-CD6D8055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6449C-6C0F-481B-A79E-8EE82D66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E24F2-7737-49C6-ABC8-31E84425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EDF0F-31BD-4659-A8B2-24863A23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9C1D1-EB26-4748-B762-76895E4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F4495-DCEC-4BA1-AFFD-C7DFFD9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3FD6-C846-4D29-8C1B-EE9E543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4C3-C3EA-427C-8B6D-E643C8C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2D6D-5F58-4D39-938E-6131061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EFB9E-F1EC-4A8B-88DB-FAB57E6D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89D19-180E-4B33-937E-6BE9045E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CC9BD-04C1-4F65-BE23-9B1FF715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0753-C961-4330-94EA-546E200C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F2C-93B4-4330-A2E7-56326E9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9983-0462-485D-9F42-9C5117BEC83D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1FB1-82AB-4B53-9B7D-E4775B01E19C}" type="slidenum">
              <a:rPr b="0" lang="ru-RU" sz="2800" spc="-1" strike="noStrike">
                <a:solidFill>
                  <a:srgbClr val="47534c"/>
                </a:solidFill>
                <a:latin typeface="Garamon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EC1-5EFE-4572-8390-A6045ED1BF17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85A3-9084-4F62-B6C4-5334426B45E3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CE1B-8807-4B0B-8C81-B738BC756150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B1A4-492C-4263-BCFE-23206E931D91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F16-766D-4DBD-8CD2-3CE23692AE06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1920" y="214200"/>
            <a:ext cx="8705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МБУ МП г.Казани «Комплексный Центр социального обслуживания детей и молодежи «Доверие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Предупреждение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уицидального поведения у детей и  подростков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руководитель ОППП «Сердэш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Н.А.Сабирова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Казань 2017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0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7286760" y="1571760"/>
            <a:ext cx="1380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СЛЕДУЕТ ОБРАЩАТЬ ВНИМАНИЕ НА СЛЕДУЮЩИЕ ЗАЯВЛЕНИЯ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навижу жизнь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всем будет лучше без мен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мне нечего ждать от жизн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они пожалеют о том, что мне сделал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 могу этого вынест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стал обузой для всех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покончу с собой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икому я не нужен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скоро все закончитс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это выше моих сил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480" y="1571760"/>
            <a:ext cx="8483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станавливай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доброжелательные взаимоотношения со всеми детьм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оворите с ребенком /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Важен эмоциональный контакт 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Дайте возможность выговориться ему. Слушайте со всем вниманием, не осуждая, что даёт возможность выговориться без боязни быть прерванным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покойно и доходчиво спрашивайте о тревожащей ситуации, без обвинения, «допроса» и осуждени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являйт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заботу,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ддержку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, участи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буйте понимать чувства, которые испытывает ребенок,  помогайте ему сохранить веру в себ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14200" y="142884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пределите источник дискомфорта, причину конфликта. Окажите помощь в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решении актуальной проблем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пытайтес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уменьшить степень психологической зависимости от причины,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овлекшей суицидальное поведение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селяйте надежду, что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блему можно решить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 Приведи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имеры конструктивного выхода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из подобной ситуации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ите использоват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оды снятия психологического напряжения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ребенку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осознать личностные ресурс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ему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определить реалистичную перспективу на будуще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РЕКОМЕНДАЦИИ ПО ПРОВЕДЕНИЮ БЕСЕДЫ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50012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азговаривайте в спокойном месте, чтобы избежать возможности быть прерванным в беседе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деляйте всё внимание собеседнику, смотрите на него, удобно, без напряжения расположившись напротив, но не через стол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ерескажите то, что собеседник рассказал вам, чтобы он убедился, что вы действительно поняли суть услышанного и ничего не пропустил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Дайте возможность собеседнику высказаться, не перебивая его, и говорите только тогда, когда он перестанет говори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Говорить без осуждения и пристрастия, что способствует усиление у собеседника чувства собственного достоинства; произносить только конструктивные фразы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МОЩЬ В СЛУЧАЯХ СУИЦИДАЛЬНО-ОРИЕНТИРОВАННОГО ПОВЕДЕНИЯ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Основные метод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Эмоциональная поддержк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воевременная  консультация специалист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оощрение положительных устремлений для облегчения ситуации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бучение социальным навыкам и умениям преодоления стресса 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собственном пример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1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ЕСЛИ У РЕБЕНКА ТЯЖЕЛОЕ ЭМОЦИОНАЛЬНОЕ СОСТОЯНИЕ (ВЫСОКИЙ РИСК СУИЦИДА)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4200" y="1571760"/>
            <a:ext cx="8501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 оставляйте ребенка одного/сообщите взрослому, кто отвечает за ребен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льзя в такой ситуации спорить с ребенком, обвинять,  осуждать, игнорировать ег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Обязательно обратитесь к специалистам, направьте родителей на консультацию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(психиатру, психотерапевту, психологу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МБУ МП г. Казани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«Комплексный Центр социального обслуживания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детей и молодежи «Доверие»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 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Наши контакты: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. Казань,   ул. Годовикова, 14, 2-ой подъезд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ро «Авиастроительная», ост. Максимов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Тел.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571-15-80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www.kcsodoverie.ru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vk.com/serdesh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1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3851280" y="1841400"/>
            <a:ext cx="147780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528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Доверия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кризисной медико-психологической помощи «Сердеш 129»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279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55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80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 доверия  г. Казани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277 - 00 – 00 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(общая линия)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8360" y="131112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Телефон Доверия для детей, подростков и их родителей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8-800-2000-122</a:t>
            </a: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82d"/>
                </a:solidFill>
                <a:latin typeface="Century Gothic"/>
              </a:rPr>
              <a:t>Анонимно       Бесплатно    Круглосуточн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Рисунок 3" descr="http://fond-detyam.ru/detskiy-telefon-doveriya/ДТД.JPG"/>
          <p:cNvPicPr/>
          <p:nvPr/>
        </p:nvPicPr>
        <p:blipFill>
          <a:blip r:embed="rId1"/>
          <a:stretch/>
        </p:blipFill>
        <p:spPr>
          <a:xfrm>
            <a:off x="7308720" y="3108240"/>
            <a:ext cx="1500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15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В ПОДРОСТКОВОМ ВОЗРАСТЕ, В СИЛУ ОСОБЕННОСТИ  РАЗВИТИЯ ЧЕЛОВЕКА НА ДАННОМ ВОЗРАСТНОМ ЭТАПЕ, </a:t>
            </a:r>
            <a:r>
              <a:rPr b="1" lang="ru-RU" sz="2000" spc="-1" strike="noStrike" u="sng">
                <a:solidFill>
                  <a:srgbClr val="6b7d72"/>
                </a:solidFill>
                <a:uFillTx/>
                <a:latin typeface="Book Antiqua"/>
              </a:rPr>
              <a:t>ЛЮБАЯ СИТУАЦИЯ МОЖЕТ БЫТЬ </a:t>
            </a: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ГИПЕРБОЛИЗИРОВАНА, СТАТЬ  ТРАВМИРУЮЩЕЙ: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5001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больших перемен в психологическом,     социальном, физиологическом план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приобретения социальных навык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конструктивно общаться /через ссоры, конфликтные ситуации, обесценивание опыта взрослых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преподносить себя / через переживание насмешек, придирок, критики и т.п.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болезненного поиска себя, своего места в жизни;   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переживаний: ссоры с родителями, первая влюбленность, комплексы по поводу внешности, непростые отношения со сверстникам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потребность в близком друге, которому можно доверить свои тайны и страх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7715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ПОЧЕМУ ДЕТИ РЕШАЮТСЯ НА СУИЦИД…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первом  месте – сложная для ребенка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емейная обстановка,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.т.ч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фликтный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, уход одного из родителей из семьи,  конфликты, насилие  между родными и близкими, жестокое обращение с ребенком, психологическое, физическое и    сексуальное насил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втором месте –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еразделенная любовь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ретьем – конфликты со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верстниками, проблемы, связанные с обучение в школе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/преследование , отвержение, неприятие в реальном школьном пространстве, в виртуальных социальных сообществах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НОВНЫЕ МОТИВЫ СУИЦИДАЛЬНОГО ПОВЕДЕНИЯ У ДЕТЕЙ И ПОДРОСТК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е обиды, одиночества, отчужденности, непонима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Действительная или мнимая утрата любви родителей, неразделенное чувство или рев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Завышенные требования , игнорирование как личност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я, связанные со смертью, разводом или уходом родителей из семь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вины, стыда, оскорбленного самолюбия, самообвин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Боязнь позора, насмешек или униж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трах наказания, нежелания извиниться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Любовные неудачи, сексуальные эксцессы, беремен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мести, злобы, протеста; угроза или вымогательство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Желание привлечь к себе внимание, вызвать сочувстви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очувствие или подражание друзьям, героям фильмов, кумирам, влияние сообщества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b7d72"/>
                </a:solidFill>
                <a:latin typeface="Book Antiqua"/>
              </a:rPr>
              <a:t>ОСОБЕННОСТИ СУИЦИДАЛЬНОГО ПОВЕДЕНИЯ ПОДРОСТКОВ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2139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щущение безысходности, неразрешимости конфликта, чувство отчаяния и одиночества возникают в следствии отсутствия достаточного жизненного опыта,  юношеского максимализма, неумения предвидеть истинные последствия своих поступков и прогнозировать исходы сложившейся ситуац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в подростковом возрасте: эмоциональная неустойчивость, повышенная внушаемость, сензитивность, импульсивность могут  формировать  предпосылки к суицидальному поведению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 95% случаев имеется отягощенный семейный анамнез: хронический алкоголизм родителей; характеропатии и личностные акцентуации родителей, создающие напряженность в семье; патология у родственников и родителей, депрессии, психозы, случаи суицидов в семьях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ВЫШАЕТ РИСК СУИЦИДАЛЬНОГО ПОВЕДЕНИЯ У ПОДРОСТКОВ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потребление алкоголя, наркотических препаратов /по статистике случаев с связанных с употреблением не было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сталость, длительный стресс /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ремя сдачи экзаменов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Конфликты, связанные с учебой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Чувство беспомощности,  безнадеж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тсутствие ситуации успеха в значимых видах деятель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Материальные  трудност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(повышенная эмоциональность, впечатлительность, импульсивность, демонстративность)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сихические расстройства, особенно тяжелые депресс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Хронические или смертельные болезн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Тенденция к самоповреждению; агрессия,  направленная на себ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личие предыдущей (незаконченной) попытки суицида, суицид в семье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ФИЗИОЛОГИ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теря аппетита или чрезмерный импульсивный аппетит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нижение или повышение веса тел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Бессонница или повышенная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ритма сн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менструального цикла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астые жалобы на боли в животе, головные боли, постоянную усталость,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ащенный пульс, сердцеби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ышенное артериальное давл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ухость во рту, нехватка воздуха, ощущение стесненного дыхания, комка в горл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увство физической тяжест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412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ЭМОЦИОНАЛЬНЫ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8000" y="1642680"/>
            <a:ext cx="84358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ход от контактов, изоляция от друзей и семь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езапные приступы гнев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скуки при деятельности, которая раньше приносила удовольствие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ссимистическая оценка прошлого, настоящего, отсутствие планов и перспектив в будущем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увство беспомощности и зависимост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ообвинения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авленность, безразличи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ревог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ор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ОВЕДЕН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4304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езкое снижение активности в реальном мире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менение привычек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еобычно пренебрежительное отношение к своему внешнему виду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лонность к неоправданно рискованным поступкам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Злоупотребление психоактивными веществам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ыбор тем разговора, книг, музыки, фильмов связанных со смертью и самоубийствам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ямые и косвенные сообщени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Шутки, иронические высказывания о бессмысленности жизни, желании умере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учение и приобретение  средств для совершения суицида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ообщения о конкретном плане суицид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ход из дом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исьма к близким, раздаривание вещей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ощание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2:30:56Z</dcterms:created>
  <dc:creator>User</dc:creator>
  <dc:description/>
  <dc:language>en-US</dc:language>
  <cp:lastModifiedBy>Начальник ОУУП и ПДН</cp:lastModifiedBy>
  <dcterms:modified xsi:type="dcterms:W3CDTF">2017-03-29T07:47:43Z</dcterms:modified>
  <cp:revision>39</cp:revision>
  <dc:subject/>
  <dc:title>Слайд 1</dc:title>
</cp:coreProperties>
</file>